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BF5-3182-4BC0-8861-0B538163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97F-F752-413A-8145-B001478B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E49-486D-4FA9-A340-B1BB7CBB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C48-5332-4232-9BA2-DA4A84EE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F5D-5CD0-409D-A829-995155C3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F71-A967-4EA0-9A18-07DBA3DE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4CC-EF30-4E43-AD33-F23C5DA5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2F1-BE92-45C4-B140-DD6C3017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2E0-74D7-4100-B041-B2E16348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A54-F6DB-48A1-AF10-FFA117F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8E4-E29B-4D3E-A5FE-79AFF19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632-8DBA-4A12-962E-87F87EA9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2E6-7A34-434D-94B6-E69479E9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kyingblogger.com/10-great-scientist-diedinjuried-seriously-in-experiment/" TargetMode="External"/><Relationship Id="rId2" Type="http://schemas.openxmlformats.org/officeDocument/2006/relationships/hyperlink" Target="http://www.famousquotesandauthors.com/authors/sir_humphrey_davy_quotes.html" TargetMode="External"/><Relationship Id="rId3" Type="http://schemas.openxmlformats.org/officeDocument/2006/relationships/hyperlink" Target="http://openlibrary.org/authors/OL2957336A/Sir_Humphry_Davy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469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phry Dav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733560"/>
            <a:ext cx="45720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yden T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1- Important d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2- Child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3- Inventions/discove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4-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5- Close death situa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6-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7- 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8- Work sited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12-17-17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in 5-29-18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knighted in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laughing gas in 18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ent to school at Truro Gramme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one brother three si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ad died when he was sixt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w up p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s/discover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vention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s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over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ss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s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se Death experi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heart att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t ill from to much gas inha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uch inhalation of hydrogen g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discovered major impor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aughing gas is used in a variety of different w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425680" cy="30574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57400" cy="18288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1714680" cy="29718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838080" y="44956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phrey D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his arc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638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phrys fly fishing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phry Da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 sited p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kyingblogger.com/10-great-scientist-diedinjuried-seriously-in-experi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mousquotesandauthors.com/authors/sir_humphrey_davy_quot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openlibrary.org/authors/OL2957336A/Sir_Humphry_D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3:59:58Z</dcterms:created>
  <dc:creator>ncdesk4</dc:creator>
  <dc:description/>
  <dc:language>en-US</dc:language>
  <cp:lastModifiedBy>ncdesk4</cp:lastModifiedBy>
  <dcterms:modified xsi:type="dcterms:W3CDTF">2011-04-07T15:18:18Z</dcterms:modified>
  <cp:revision>7</cp:revision>
  <dc:subject/>
  <dc:title>Humphry Davy </dc:title>
</cp:coreProperties>
</file>